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7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DED-FE3E-42DE-A5F4-70086078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1972-AD2E-49E4-8316-27721791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52CE-4D0F-4FD8-89EF-EF6D53F3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E93A-C710-4D88-8C4C-CEEEB0C9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20C1-A755-4503-BFC3-26653A2A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741B-1F6D-44CC-ACD7-F62E0873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1FD3-3035-44FF-B41A-7C168DD2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6369-0FA8-46DF-BF23-01D02EC3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3E59-EF10-4661-89E8-F9C9E55B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DF61-7107-4BF6-AA4B-9681052A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5BE5-E9D8-47C7-B93B-A94B2E93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293E-2BE1-416C-B4E9-3E9B99DC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8CD0-ACA4-4C4F-9910-1BA087FD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1780-D7E3-4BE0-A414-232384A0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4DA9-8650-4A3C-B661-9DCFCE38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28A5-1383-482C-8FD4-6B34B674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85D4-DCE8-4803-BCE3-FAD7BD03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3804-82CB-4DFD-948C-E9EF6952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484-AE00-4997-9D87-EEE181AA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87E4-9C61-4762-BFC4-25E61E7E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8790-BAB5-4487-A0ED-F0121793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E139-7B9D-41DF-9458-2118AE36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3EE3-6A42-487A-8BD0-4E995B68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C16D-F522-411A-B0AD-AB9975AE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CEFD-8843-4E09-8A74-239829EA548F}" type="slidenum"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2538360"/>
            <a:ext cx="640692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E0E5-A155-4CA6-8903-01C75BBF0317}" type="slidenum"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187280" y="620640"/>
            <a:ext cx="6840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6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、减慢食物变质的速度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00720" y="6381720"/>
            <a:ext cx="4432320" cy="1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整理者：建德市新安江第一小学 秦爱军</a:t>
            </a:r>
            <a:endParaRPr b="0" lang="en-US" sz="20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68360" y="907920"/>
            <a:ext cx="540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一、观察变质的食物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220500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你吃过鱼干吗？味道怎样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896000" y="3278160"/>
            <a:ext cx="4248000" cy="3579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7632720" cy="2079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620640"/>
            <a:ext cx="47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新鲜的小鱼干和腐败的小鱼、干面包和发馊的面包，有哪些不同的地方？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3781440" cy="327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640" y="3429000"/>
            <a:ext cx="7632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Arial Narrow"/>
              </a:rPr>
              <a:t>、小鱼为什么在短时间里腐败了？鱼干为什么能长时间地保持好闻的气味？</a:t>
            </a:r>
            <a:endParaRPr b="0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62864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 Narrow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Arial Narrow"/>
              </a:rPr>
              <a:t>、腐败的小鱼、发馊的面条与发霉的面包有哪些相似的地方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4360" y="260280"/>
            <a:ext cx="1726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想一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24000" y="189000"/>
            <a:ext cx="5943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二、储存食物的各种方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141300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我们已经知道引起食物变质需要有一定的空气、水分和温度等条件，如果要储存一条新鲜的小鱼，可以用什么方法？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2997360"/>
            <a:ext cx="849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小组讨论交流，并说说运用这种方法储存食物的理由。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393372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食品罐头为什么可以用这种方法能储存食物？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4653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你还知道哪些储存食物的方法？为什么这些方法能减慢食物变质的速度？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95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讨论：你还能用什么方法来储存食物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24360" y="0"/>
            <a:ext cx="2448000" cy="1968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724360" y="1989000"/>
            <a:ext cx="2448000" cy="1511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724360" y="3500280"/>
            <a:ext cx="2376720" cy="1357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796000" y="4869000"/>
            <a:ext cx="2376360" cy="1290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669120" y="2637000"/>
            <a:ext cx="5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晒成鱼干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40560" y="4005360"/>
            <a:ext cx="5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3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用盐腌成咸鱼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71880" y="537372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4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做成罐头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40560" y="1125360"/>
            <a:ext cx="6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1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放进冰箱冷冻</a:t>
            </a:r>
            <a:r>
              <a:rPr b="0" lang="zh-CN" sz="2400" spc="-1" strike="noStrike">
                <a:solidFill>
                  <a:srgbClr val="003300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920" y="0"/>
            <a:ext cx="36734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储存一条鱼的方法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42100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 Narrow"/>
              </a:rPr>
              <a:t>同一种食物，我们可以用多种不同的方法来减慢它的变质速度。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85075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判断题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、食物的腐败变质是由微生物的大量繁殖引起的。（     ）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、微生物的生长与繁殖，需要空气、水分和适宜的温度。（   ）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、闻变质食物的气味时，要扇闻，并尽量少闻。（       ）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、用冷冻、晒干、真空包装等方法，能减慢食物变质的速度。其原因是破坏了微生物生长所需的条件。（       ）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260280"/>
            <a:ext cx="3527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考考你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206960"/>
            <a:ext cx="8280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 Narrow"/>
              </a:rPr>
              <a:t>填空：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 Narrow"/>
              </a:rPr>
              <a:t>◆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食物的腐败变质是（            ）引起的。使面包发霉的</a:t>
            </a:r>
            <a:r>
              <a:rPr b="0" lang="zh-CN" sz="2000" spc="-1" strike="noStrike">
                <a:solidFill>
                  <a:srgbClr val="ff00ff"/>
                </a:solidFill>
                <a:latin typeface="Arial Narrow"/>
              </a:rPr>
              <a:t>霉菌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就是（        ），还有许多肉眼看不见、用放大镜也看不见的</a:t>
            </a:r>
            <a:r>
              <a:rPr b="0" lang="zh-CN" sz="2000" spc="-1" strike="noStrike">
                <a:solidFill>
                  <a:srgbClr val="ff00ff"/>
                </a:solidFill>
                <a:latin typeface="Arial Narrow"/>
              </a:rPr>
              <a:t>细菌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，也是（           ）。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◆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微生物的生长与繁殖和植物、动物一样，需要一定的条件。在（         ）的环境里，它们能很快地繁殖。越来越多的微生物分解、吸收食物中的（       ），同时排出（      ），使食物不再是原来的样子，食物（               ）了。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23:54:43Z</dcterms:created>
  <dc:creator>雨林木风</dc:creator>
  <dc:description/>
  <dc:language>en-US</dc:language>
  <cp:lastModifiedBy>微软用户</cp:lastModifiedBy>
  <dcterms:modified xsi:type="dcterms:W3CDTF">2010-02-18T13:46:21Z</dcterms:modified>
  <cp:revision>12</cp:revision>
  <dc:subject/>
  <dc:title>幻灯片 1</dc:title>
</cp:coreProperties>
</file>